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87D4-2403-4669-9C5D-5EBC67E0A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4A96-4562-43D3-947B-EB0832DE6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2551-E49D-48A6-9AE0-D43E69E9D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25B9-6C43-43B7-AFE9-E67E50842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5312-6795-44D5-9BD8-47FECF0F1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B01C-C27B-4CE8-90EC-1D85AE6DE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F9BF-92E0-42C1-AC27-238A92512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F1A4-3741-4821-9462-FE17AE666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D3C3-5452-475C-8626-037B3F6E5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922F-EAC2-42FB-A8F4-4E768B7DD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FD36-973A-46CB-858A-93D5AC04B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8BC9-9662-4BA0-B5DF-81A101966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6CF1-84F2-423A-99F6-677603349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6DE2-7F5E-4E1D-AA7F-21E2D8C38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ACDE-14B9-4B89-9C94-762ECE34A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8970-6E4D-49C9-B564-5C70A8B5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4FEC-72B2-4B4F-924F-D7B78C73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792-38B1-448E-9EA5-EF1DD5A2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8A65-FFB0-474C-97D4-FE46E556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DF8C-4AC8-42FD-8D75-06ABC577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2021-B0A0-42BE-9AE0-27FAB4F6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A11-A2DC-4C74-96C9-EDF47CB8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9E65-2857-408B-BFC2-2C6EF5CD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BFE4-7798-4A46-81DF-F3BAFCE0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6C74-9286-4838-883E-F5ACFC39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0BED-D277-45BF-80DF-47BB9EAF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0011-609F-4C37-8AFE-10E7E80A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9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Hopkins Summer Epi-Biostat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03E7-DB45-4FAB-A421-73197C7C6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 to Multi-level Models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hleen Bennet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57320" y="115920"/>
            <a:ext cx="2341440" cy="885960"/>
            <a:chOff x="157320" y="115920"/>
            <a:chExt cx="2341440" cy="885960"/>
          </a:xfrm>
        </p:grpSpPr>
        <p:pic>
          <p:nvPicPr>
            <p:cNvPr id="50" name="Picture 5" descr="http://research.ncl.ac.uk/media/sites/researchwebsites/rescapmed/EUlogo.jpg"/>
            <p:cNvPicPr/>
            <p:nvPr/>
          </p:nvPicPr>
          <p:blipFill>
            <a:blip r:embed="rId1"/>
            <a:stretch/>
          </p:blipFill>
          <p:spPr>
            <a:xfrm>
              <a:off x="157320" y="231480"/>
              <a:ext cx="109512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7" descr="http://research.ncl.ac.uk/media/sites/researchwebsites/rescapmed/FP7logo2.jpg"/>
            <p:cNvPicPr/>
            <p:nvPr/>
          </p:nvPicPr>
          <p:blipFill>
            <a:blip r:embed="rId2"/>
            <a:stretch/>
          </p:blipFill>
          <p:spPr>
            <a:xfrm>
              <a:off x="1403640" y="115920"/>
              <a:ext cx="1095120" cy="88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6372360" y="109440"/>
            <a:ext cx="2447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4E9C-CF0E-4781-8345-97FD915AA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level” 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covariates from many levels and their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 correlation among observations from within a level (clu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effect MLMs condition on unobserved “latent variables” to account for the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about the latent variables determine the nature of the within cluster 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an be borrowed across clusters (levels) to improve individual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18B5-C9C4-4A17-BED2-E2CECC0B5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two-leve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es of health services: assessment of quality of care are often obtained from patients that are clustered within hospitals. Patients are level 1 data and hospitals are level 2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velopmental toxicity studies: pregnant mice (dams) are assigned to increased doses of a chemical and examined for evidence of malformations (a binary response). Data collected in developmental toxicity studies are clustered. Observations on the fetuses (level 1 units) nested within dams/litters (level 2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level” signifies the position of a unit of observation within the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44B7-EA83-437E-846B-4A2EDE617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three-leve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might be obtained in patients nested within clinics, that in turn, are nested within different regions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are obtained on children (level 1) nested within classrooms (level 2), nested within schools (level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ultileve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ultilevel models incorporate two kinds of predi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or the desig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represent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represent a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ith the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explain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organise unexplained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995B-7D71-48EB-8C75-8DF47C8E0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BD83-04FE-4243-BB16-07F096B7B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ression with Correlated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take account of correlatio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tain valid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efficient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etting: Longitudinal de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Features of Longitudinal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Covarianc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common feature of repeated measurements of an individual is correlation (model th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Heterogeneity of 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other common feature of longitudinal data is heterogeneous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lus: unbalanced data, non-equidistant measurements over time, drop-ou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94AB-3C9C-4E0D-AF4C-9B50CD3C0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Linear Mixed-Effects Models</a:t>
            </a:r>
            <a:br>
              <a:rPr sz="44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The typical OLS regression model with a temporal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CB75-B894-46EF-8DAF-DC1578007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971800" y="3583080"/>
            <a:ext cx="2824200" cy="230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1752480" y="2438280"/>
          <a:ext cx="6096240" cy="1011240"/>
        </p:xfrm>
        <a:graphic>
          <a:graphicData uri="http://schemas.openxmlformats.org/drawingml/2006/table">
            <a:tbl>
              <a:tblPr/>
              <a:tblGrid>
                <a:gridCol w="1828800"/>
                <a:gridCol w="503280"/>
                <a:gridCol w="1325520"/>
                <a:gridCol w="533520"/>
                <a:gridCol w="1905120"/>
              </a:tblGrid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Y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z-Cyrl-A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│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Time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respon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time 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inter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uilding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ll observations (data points) are independent = different 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Repeat Measu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bservations (data points) are dependent = same 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67DB-6393-43AC-885C-6E1D1DECC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3962520" y="36576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990720" y="3112920"/>
            <a:ext cx="2904840" cy="2373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5029200" y="3112920"/>
            <a:ext cx="27367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uilding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1E94-A07D-4732-9338-1DD1D08D5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685800" y="2581200"/>
            <a:ext cx="76201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69B2-B675-47F3-9873-94B7CF699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981080" y="1427040"/>
            <a:ext cx="5205600" cy="45165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380880" y="3094200"/>
            <a:ext cx="144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v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7"/>
          <p:cNvCxnSpPr/>
          <p:nvPr/>
        </p:nvCxnSpPr>
        <p:spPr>
          <a:xfrm>
            <a:off x="914040" y="3705120"/>
            <a:ext cx="1080" cy="94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TextBox 8"/>
          <p:cNvSpPr/>
          <p:nvPr/>
        </p:nvSpPr>
        <p:spPr>
          <a:xfrm>
            <a:off x="4038480" y="83808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Distances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0070c0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72bfc5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72bfc5"/>
                </a:solidFill>
                <a:latin typeface="Arial"/>
              </a:rPr>
              <a:t>3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rom each subject specific intercept to the average line intercept – 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random interce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8153280" y="1362240"/>
            <a:ext cx="45720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685800" y="5961240"/>
            <a:ext cx="609480" cy="5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0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1"/>
          <p:cNvSpPr/>
          <p:nvPr/>
        </p:nvSpPr>
        <p:spPr>
          <a:xfrm>
            <a:off x="876240" y="596412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7315200" y="3352680"/>
            <a:ext cx="2362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0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6"/>
          <p:cNvSpPr/>
          <p:nvPr/>
        </p:nvSpPr>
        <p:spPr>
          <a:xfrm>
            <a:off x="8636040" y="337824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7"/>
          <p:cNvSpPr/>
          <p:nvPr/>
        </p:nvSpPr>
        <p:spPr>
          <a:xfrm flipH="1">
            <a:off x="2546280" y="2743200"/>
            <a:ext cx="2036880" cy="14335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9"/>
          <p:cNvSpPr/>
          <p:nvPr/>
        </p:nvSpPr>
        <p:spPr>
          <a:xfrm flipH="1">
            <a:off x="2546280" y="3786120"/>
            <a:ext cx="959040" cy="633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9"/>
          <p:cNvSpPr/>
          <p:nvPr/>
        </p:nvSpPr>
        <p:spPr>
          <a:xfrm flipH="1">
            <a:off x="2546280" y="4267080"/>
            <a:ext cx="1797120" cy="1143000"/>
          </a:xfrm>
          <a:prstGeom prst="line">
            <a:avLst/>
          </a:prstGeom>
          <a:ln w="1908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22887"/>
          <p:cNvSpPr/>
          <p:nvPr/>
        </p:nvSpPr>
        <p:spPr>
          <a:xfrm>
            <a:off x="2666880" y="4343400"/>
            <a:ext cx="0" cy="566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40"/>
          <p:cNvSpPr/>
          <p:nvPr/>
        </p:nvSpPr>
        <p:spPr>
          <a:xfrm>
            <a:off x="2819520" y="4005360"/>
            <a:ext cx="0" cy="7189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42"/>
          <p:cNvSpPr/>
          <p:nvPr/>
        </p:nvSpPr>
        <p:spPr>
          <a:xfrm>
            <a:off x="2819520" y="4724280"/>
            <a:ext cx="0" cy="533520"/>
          </a:xfrm>
          <a:prstGeom prst="line">
            <a:avLst/>
          </a:prstGeom>
          <a:ln w="1908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Why Multilevel Model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 social, medical and biological sciences hierarchical structure is comm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ata forming groups or clusters tend not to be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xtension of traditional regress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AB74-9424-41A1-96E5-36FCA5FF2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AB4F-8834-48DC-AAC1-C379C91BB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4038480" y="83808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Distances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rom each observed value to their subject specific lines are the independent res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7315200" y="3352680"/>
            <a:ext cx="2362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6"/>
          <p:cNvSpPr/>
          <p:nvPr/>
        </p:nvSpPr>
        <p:spPr>
          <a:xfrm>
            <a:off x="8381880" y="3457440"/>
            <a:ext cx="1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728720" y="1557360"/>
            <a:ext cx="520560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Linear Random intercept Model</a:t>
            </a:r>
            <a:br>
              <a:rPr sz="40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31A4-2BCA-4499-BF26-58FEF8262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700440" cy="33051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2700360" y="2057400"/>
            <a:ext cx="3700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 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5257800" y="2057400"/>
            <a:ext cx="914400" cy="4572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9"/>
          <p:cNvSpPr/>
          <p:nvPr/>
        </p:nvSpPr>
        <p:spPr>
          <a:xfrm>
            <a:off x="3581280" y="2438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he random intercept model</a:t>
            </a:r>
            <a:br>
              <a:rPr sz="4400"/>
            </a:b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raphical representation of a random intercep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2D1E-D4CD-4553-9DEC-B61276B9F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rcRect l="0" t="1889" r="0" b="0"/>
          <a:stretch/>
        </p:blipFill>
        <p:spPr>
          <a:xfrm>
            <a:off x="903240" y="1650960"/>
            <a:ext cx="79358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 different situation…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s the outcome changing over time at the same pace for all subjects, i.e. same sl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0E73-CB88-4629-A3C1-EB9166CB8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www.bristol.ac.uk/cmm/images/rs/2.gif"/>
          <p:cNvPicPr/>
          <p:nvPr/>
        </p:nvPicPr>
        <p:blipFill>
          <a:blip r:embed="rId1"/>
          <a:stretch/>
        </p:blipFill>
        <p:spPr>
          <a:xfrm>
            <a:off x="155520" y="2421000"/>
            <a:ext cx="4165560" cy="3217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www.bristol.ac.uk/cmm/images/rs/3.gif"/>
          <p:cNvPicPr/>
          <p:nvPr/>
        </p:nvPicPr>
        <p:blipFill>
          <a:blip r:embed="rId2"/>
          <a:stretch/>
        </p:blipFill>
        <p:spPr>
          <a:xfrm>
            <a:off x="4648320" y="2421000"/>
            <a:ext cx="426384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6CC9-32BB-4441-8DC4-E1712A338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http://www.bristol.ac.uk/cmm/images/rs/3.gif"/>
          <p:cNvPicPr/>
          <p:nvPr/>
        </p:nvPicPr>
        <p:blipFill>
          <a:blip r:embed="rId1"/>
          <a:stretch/>
        </p:blipFill>
        <p:spPr>
          <a:xfrm>
            <a:off x="3078000" y="228600"/>
            <a:ext cx="2524320" cy="1905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http://www.bristol.ac.uk/cmm/images/rs/5.gif"/>
          <p:cNvPicPr/>
          <p:nvPr/>
        </p:nvPicPr>
        <p:blipFill>
          <a:blip r:embed="rId2"/>
          <a:stretch/>
        </p:blipFill>
        <p:spPr>
          <a:xfrm>
            <a:off x="1747800" y="2635200"/>
            <a:ext cx="5186520" cy="39942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3352680" y="2286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r prefer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5791320" y="838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7391520" y="4446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near Random intercept/random slope Model</a:t>
            </a:r>
            <a:br>
              <a:rPr sz="2800"/>
            </a:b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0AE1-4956-4AAC-9182-E819C461F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http://www.bristol.ac.uk/cmm/images/rs/7.gif"/>
          <p:cNvPicPr/>
          <p:nvPr/>
        </p:nvPicPr>
        <p:blipFill>
          <a:blip r:embed="rId1"/>
          <a:stretch/>
        </p:blipFill>
        <p:spPr>
          <a:xfrm>
            <a:off x="1574640" y="2133720"/>
            <a:ext cx="5359680" cy="41907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6"/>
          <p:cNvSpPr/>
          <p:nvPr/>
        </p:nvSpPr>
        <p:spPr>
          <a:xfrm>
            <a:off x="2700360" y="1523880"/>
            <a:ext cx="3700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 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e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040360" y="1523880"/>
            <a:ext cx="1219320" cy="4572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8"/>
          <p:cNvSpPr/>
          <p:nvPr/>
        </p:nvSpPr>
        <p:spPr>
          <a:xfrm>
            <a:off x="3505320" y="1905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7315200" y="3352680"/>
            <a:ext cx="23623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7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0"/>
          <p:cNvSpPr/>
          <p:nvPr/>
        </p:nvSpPr>
        <p:spPr>
          <a:xfrm>
            <a:off x="8534520" y="342900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11"/>
          <p:cNvSpPr/>
          <p:nvPr/>
        </p:nvSpPr>
        <p:spPr>
          <a:xfrm flipV="1">
            <a:off x="2286000" y="4517640"/>
            <a:ext cx="2438280" cy="8161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20"/>
          <p:cNvSpPr/>
          <p:nvPr/>
        </p:nvSpPr>
        <p:spPr>
          <a:xfrm>
            <a:off x="4264200" y="4373640"/>
            <a:ext cx="0" cy="2887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26"/>
          <p:cNvCxnSpPr/>
          <p:nvPr/>
        </p:nvCxnSpPr>
        <p:spPr>
          <a:xfrm flipV="1">
            <a:off x="4343040" y="1904400"/>
            <a:ext cx="1307160" cy="25153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98" name="Straight Arrow Connector 129024"/>
          <p:cNvCxnSpPr/>
          <p:nvPr/>
        </p:nvCxnSpPr>
        <p:spPr>
          <a:xfrm>
            <a:off x="4756320" y="4517640"/>
            <a:ext cx="273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9" name="Rectangle 129026"/>
          <p:cNvSpPr/>
          <p:nvPr/>
        </p:nvSpPr>
        <p:spPr>
          <a:xfrm>
            <a:off x="5025600" y="4334040"/>
            <a:ext cx="340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CEDE-75FF-45DE-959D-283EF5DB0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C413-060F-4FB1-BA13-C03AE063C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6720" y="38088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gistic Regression Example: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ross-over tri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: 1-not depressed; 0- de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ors: period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; treatment group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bservations per person (clu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of interest: log odds ratio of depression: placebo vs. trea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5334120"/>
            <a:ext cx="8610480" cy="113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Model:    log{odds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ress)}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lac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8497-145D-4832-AEB8-652CEFB31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:  estimate (standard err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523880" y="1295280"/>
          <a:ext cx="6172200" cy="4267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inary Logistic Regr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ount for cor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 Box 28"/>
          <p:cNvSpPr/>
          <p:nvPr/>
        </p:nvSpPr>
        <p:spPr>
          <a:xfrm>
            <a:off x="762120" y="5791320"/>
            <a:ext cx="74674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Estimat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WR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ndard Errors (&amp; Inferences) for O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1828800" y="29638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2057400" y="297180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6"/>
          <p:cNvSpPr/>
          <p:nvPr/>
        </p:nvSpPr>
        <p:spPr>
          <a:xfrm>
            <a:off x="2057400" y="495288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7"/>
          <p:cNvSpPr/>
          <p:nvPr/>
        </p:nvSpPr>
        <p:spPr>
          <a:xfrm>
            <a:off x="2057400" y="396252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6526-061F-4809-B3E8-38165A0D2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27" descr="NonClustered"/>
          <p:cNvPicPr/>
          <p:nvPr/>
        </p:nvPicPr>
        <p:blipFill>
          <a:blip r:embed="rId1"/>
          <a:stretch/>
        </p:blipFill>
        <p:spPr>
          <a:xfrm>
            <a:off x="533520" y="395280"/>
            <a:ext cx="8153280" cy="58546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28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ulated Data: Non-Clus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33"/>
          <p:cNvSpPr/>
          <p:nvPr/>
        </p:nvSpPr>
        <p:spPr>
          <a:xfrm>
            <a:off x="2286000" y="5638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 Number (Neighborh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34"/>
          <p:cNvSpPr/>
          <p:nvPr/>
        </p:nvSpPr>
        <p:spPr>
          <a:xfrm rot="16200000">
            <a:off x="-1293120" y="3191760"/>
            <a:ext cx="41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EC2B-FFD9-4DAB-9BAB-20E235B89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, psychological and social processes that influence health occur at man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alysis of risk factors should consi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ach of these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Their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27" descr="davinci"/>
          <p:cNvPicPr/>
          <p:nvPr/>
        </p:nvPicPr>
        <p:blipFill>
          <a:blip r:embed="rId1"/>
          <a:stretch/>
        </p:blipFill>
        <p:spPr>
          <a:xfrm>
            <a:off x="3124080" y="28954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28" descr="liver2"/>
          <p:cNvPicPr/>
          <p:nvPr/>
        </p:nvPicPr>
        <p:blipFill>
          <a:blip r:embed="rId2"/>
          <a:stretch/>
        </p:blipFill>
        <p:spPr>
          <a:xfrm>
            <a:off x="2819520" y="2416320"/>
            <a:ext cx="380880" cy="398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-level Models – Main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30" descr="simpsons3"/>
          <p:cNvPicPr/>
          <p:nvPr/>
        </p:nvPicPr>
        <p:blipFill>
          <a:blip r:embed="rId3"/>
          <a:stretch/>
        </p:blipFill>
        <p:spPr>
          <a:xfrm>
            <a:off x="3505320" y="3352680"/>
            <a:ext cx="380880" cy="36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31" descr="us1"/>
          <p:cNvPicPr/>
          <p:nvPr/>
        </p:nvPicPr>
        <p:blipFill>
          <a:blip r:embed="rId4"/>
          <a:stretch/>
        </p:blipFill>
        <p:spPr>
          <a:xfrm>
            <a:off x="4800600" y="4648320"/>
            <a:ext cx="457200" cy="380880"/>
          </a:xfrm>
          <a:prstGeom prst="rect">
            <a:avLst/>
          </a:prstGeom>
          <a:ln w="0">
            <a:noFill/>
          </a:ln>
        </p:spPr>
      </p:pic>
      <p:cxnSp>
        <p:nvCxnSpPr>
          <p:cNvPr id="63" name="AutoShape 1032"/>
          <p:cNvCxnSpPr>
            <a:stCxn id="64" idx="1"/>
            <a:endCxn id="59" idx="1"/>
          </p:cNvCxnSpPr>
          <p:nvPr/>
        </p:nvCxnSpPr>
        <p:spPr>
          <a:xfrm flipH="1" flipV="1" rot="10800000">
            <a:off x="2621520" y="2266560"/>
            <a:ext cx="197640" cy="349920"/>
          </a:xfrm>
          <a:prstGeom prst="curvedConnector5">
            <a:avLst>
              <a:gd name="adj1" fmla="val -116058"/>
              <a:gd name="adj2" fmla="val 49948"/>
              <a:gd name="adj3" fmla="val -11605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5" name="Group 1033"/>
          <p:cNvGrpSpPr/>
          <p:nvPr/>
        </p:nvGrpSpPr>
        <p:grpSpPr>
          <a:xfrm>
            <a:off x="2438280" y="1981080"/>
            <a:ext cx="381240" cy="380880"/>
            <a:chOff x="2438280" y="1981080"/>
            <a:chExt cx="381240" cy="380880"/>
          </a:xfrm>
        </p:grpSpPr>
        <p:pic>
          <p:nvPicPr>
            <p:cNvPr id="66" name="Picture 1034" descr="cell"/>
            <p:cNvPicPr/>
            <p:nvPr/>
          </p:nvPicPr>
          <p:blipFill>
            <a:blip r:embed="rId5"/>
            <a:stretch/>
          </p:blipFill>
          <p:spPr>
            <a:xfrm>
              <a:off x="2438280" y="198108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035" descr="cell"/>
            <p:cNvPicPr/>
            <p:nvPr/>
          </p:nvPicPr>
          <p:blipFill>
            <a:blip r:embed="rId6"/>
            <a:stretch/>
          </p:blipFill>
          <p:spPr>
            <a:xfrm>
              <a:off x="2622600" y="198108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036" descr="cell"/>
            <p:cNvPicPr/>
            <p:nvPr/>
          </p:nvPicPr>
          <p:blipFill>
            <a:blip r:embed="rId7"/>
            <a:stretch/>
          </p:blipFill>
          <p:spPr>
            <a:xfrm>
              <a:off x="2438280" y="217152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037" descr="cell"/>
            <p:cNvPicPr/>
            <p:nvPr/>
          </p:nvPicPr>
          <p:blipFill>
            <a:blip r:embed="rId8"/>
            <a:stretch/>
          </p:blipFill>
          <p:spPr>
            <a:xfrm>
              <a:off x="2622600" y="2171520"/>
              <a:ext cx="196920" cy="190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0" name="AutoShape 1038"/>
          <p:cNvCxnSpPr>
            <a:endCxn id="58" idx="1"/>
          </p:cNvCxnSpPr>
          <p:nvPr/>
        </p:nvCxnSpPr>
        <p:spPr>
          <a:xfrm flipH="1" rot="16200000">
            <a:off x="2913840" y="2876040"/>
            <a:ext cx="267120" cy="1530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1039"/>
          <p:cNvCxnSpPr>
            <a:endCxn id="61" idx="1"/>
          </p:cNvCxnSpPr>
          <p:nvPr/>
        </p:nvCxnSpPr>
        <p:spPr>
          <a:xfrm flipH="1" rot="16200000">
            <a:off x="3260880" y="3291480"/>
            <a:ext cx="25920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1040"/>
          <p:cNvCxnSpPr/>
          <p:nvPr/>
        </p:nvCxnSpPr>
        <p:spPr>
          <a:xfrm flipH="1" rot="16200000">
            <a:off x="3718080" y="3748680"/>
            <a:ext cx="25920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1041"/>
          <p:cNvCxnSpPr/>
          <p:nvPr/>
        </p:nvCxnSpPr>
        <p:spPr>
          <a:xfrm flipH="1" rot="16200000">
            <a:off x="4098600" y="4129560"/>
            <a:ext cx="25956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1042"/>
          <p:cNvCxnSpPr/>
          <p:nvPr/>
        </p:nvCxnSpPr>
        <p:spPr>
          <a:xfrm flipH="1" rot="16200000">
            <a:off x="4555800" y="4586760"/>
            <a:ext cx="25956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75" name="Picture 1043" descr="neighborhood2"/>
          <p:cNvPicPr/>
          <p:nvPr/>
        </p:nvPicPr>
        <p:blipFill>
          <a:blip r:embed="rId9"/>
          <a:stretch/>
        </p:blipFill>
        <p:spPr>
          <a:xfrm>
            <a:off x="3962520" y="3733920"/>
            <a:ext cx="380880" cy="420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44" descr="city"/>
          <p:cNvPicPr/>
          <p:nvPr/>
        </p:nvPicPr>
        <p:blipFill>
          <a:blip r:embed="rId10"/>
          <a:stretch/>
        </p:blipFill>
        <p:spPr>
          <a:xfrm>
            <a:off x="4343400" y="419112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45"/>
          <p:cNvSpPr/>
          <p:nvPr/>
        </p:nvSpPr>
        <p:spPr>
          <a:xfrm>
            <a:off x="6858000" y="236232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alth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046"/>
          <p:cNvSpPr/>
          <p:nvPr/>
        </p:nvSpPr>
        <p:spPr>
          <a:xfrm>
            <a:off x="6629400" y="2133720"/>
            <a:ext cx="1828800" cy="1523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47"/>
          <p:cNvSpPr/>
          <p:nvPr/>
        </p:nvSpPr>
        <p:spPr>
          <a:xfrm>
            <a:off x="2819520" y="2133720"/>
            <a:ext cx="3809880" cy="5331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48"/>
          <p:cNvSpPr/>
          <p:nvPr/>
        </p:nvSpPr>
        <p:spPr>
          <a:xfrm>
            <a:off x="3200400" y="2666880"/>
            <a:ext cx="3429000" cy="152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49"/>
          <p:cNvSpPr/>
          <p:nvPr/>
        </p:nvSpPr>
        <p:spPr>
          <a:xfrm flipV="1">
            <a:off x="3505320" y="2971440"/>
            <a:ext cx="3124080" cy="152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50"/>
          <p:cNvSpPr/>
          <p:nvPr/>
        </p:nvSpPr>
        <p:spPr>
          <a:xfrm flipV="1">
            <a:off x="3886200" y="3123720"/>
            <a:ext cx="2743200" cy="3812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51"/>
          <p:cNvSpPr/>
          <p:nvPr/>
        </p:nvSpPr>
        <p:spPr>
          <a:xfrm flipV="1">
            <a:off x="4343400" y="3276360"/>
            <a:ext cx="2362320" cy="685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52"/>
          <p:cNvSpPr/>
          <p:nvPr/>
        </p:nvSpPr>
        <p:spPr>
          <a:xfrm flipV="1">
            <a:off x="4800600" y="3429000"/>
            <a:ext cx="2057400" cy="914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053"/>
          <p:cNvSpPr/>
          <p:nvPr/>
        </p:nvSpPr>
        <p:spPr>
          <a:xfrm flipV="1">
            <a:off x="5257800" y="3505320"/>
            <a:ext cx="1752480" cy="1371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55"/>
          <p:cNvSpPr/>
          <p:nvPr/>
        </p:nvSpPr>
        <p:spPr>
          <a:xfrm flipV="1">
            <a:off x="5257800" y="3962520"/>
            <a:ext cx="457200" cy="8380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56"/>
          <p:cNvSpPr/>
          <p:nvPr/>
        </p:nvSpPr>
        <p:spPr>
          <a:xfrm flipV="1">
            <a:off x="4343400" y="3048120"/>
            <a:ext cx="533520" cy="9144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57"/>
          <p:cNvSpPr/>
          <p:nvPr/>
        </p:nvSpPr>
        <p:spPr>
          <a:xfrm flipV="1">
            <a:off x="4800600" y="2819160"/>
            <a:ext cx="914400" cy="15238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EF6B-8BC2-407F-AC46-D808B6865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Clustered"/>
          <p:cNvPicPr/>
          <p:nvPr/>
        </p:nvPicPr>
        <p:blipFill>
          <a:blip r:embed="rId1"/>
          <a:stretch/>
        </p:blipFill>
        <p:spPr>
          <a:xfrm>
            <a:off x="533520" y="392040"/>
            <a:ext cx="8153280" cy="58564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28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ulated Data: Clus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0" y="5638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 Number (Neighborh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 rot="16200000">
            <a:off x="-1293120" y="3191760"/>
            <a:ext cx="41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0B87-18C8-43DF-83C1-8E793778D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in-Cluster Cor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of two observations from same cluster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685800" y="4952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Clustered = (9.8-9.8) / 9.8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= (9.8-3.2) / 9.8 = 0.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0"/>
          <p:cNvGrpSpPr/>
          <p:nvPr/>
        </p:nvGrpSpPr>
        <p:grpSpPr>
          <a:xfrm>
            <a:off x="2514600" y="3429000"/>
            <a:ext cx="4876920" cy="1054080"/>
            <a:chOff x="2514600" y="3429000"/>
            <a:chExt cx="4876920" cy="1054080"/>
          </a:xfrm>
        </p:grpSpPr>
        <p:sp>
          <p:nvSpPr>
            <p:cNvPr id="229" name="Text Box 7"/>
            <p:cNvSpPr/>
            <p:nvPr/>
          </p:nvSpPr>
          <p:spPr>
            <a:xfrm>
              <a:off x="2514600" y="3429000"/>
              <a:ext cx="487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t Var - Var Within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>
              <a:off x="3733920" y="39625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t V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9"/>
            <p:cNvSpPr/>
            <p:nvPr/>
          </p:nvSpPr>
          <p:spPr>
            <a:xfrm>
              <a:off x="2666880" y="403848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11"/>
          <p:cNvSpPr/>
          <p:nvPr/>
        </p:nvSpPr>
        <p:spPr>
          <a:xfrm>
            <a:off x="1600200" y="3200400"/>
            <a:ext cx="617220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ED4E-931C-4DA9-9C45-667FA35C0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tional considera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s in the multi-level models can be trick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interpretation of gender in a random effects model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(Y|gender,bi) = b0 + b1gender + 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 of b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persons with similar unobserved latent effect bi, the difference in average Y if those same people had been males instead of fe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e the counter-factual world….does it make sen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ntre for Multilevel Mod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niversity of Brist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ttp://www.bristol.ac.uk/cm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6812-3A57-4DE7-ABCC-1F18F6B01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2B11-4187-4121-92A6-1C4DE9210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independent response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in-Cluster Corre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: two responses from the same family tend to be more like one another than two observations from different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: two observations from the same neighborhood tend to be more like one another than two observations from different neighbor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CD33-AABA-444D-B88F-6084B8C9A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800280" y="4952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Responses a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839880" y="3043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All the key covariates are included i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z”: Most Important Assumptions of Regression Analys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38080" y="20574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Data follow norm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380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B. All the key covariates are included i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838080" y="39625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Xs are fixed and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800280" y="4952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D. Responses a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ata Modelling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inear Regression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rue relationship is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siduals are normally 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siduals have identical distribution (varianc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Residuals are independent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7A95-7D42-40C4-BF60-BA9E5C50B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pecific Settings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clear violation of assumption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ierarchical data, clustered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peated measurements (longitudinal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Nested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re is clear correlation among observational/experimental units in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is correlation needs to be accounted for during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therwise: biased inferences, wrong conclus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0F73-0509-4082-8440-1AB08EC53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eyond traditional Regression Models</a:t>
            </a: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ultilevel Models (M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atistical models as a formal framework of analysis with a complexity of structure </a:t>
            </a:r>
            <a:r>
              <a:rPr b="0" lang="en-IE" sz="2800" spc="-1" strike="noStrike" u="sng">
                <a:solidFill>
                  <a:srgbClr val="000000"/>
                </a:solidFill>
                <a:uFillTx/>
                <a:latin typeface="Arial"/>
              </a:rPr>
              <a:t>that matches the data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data with a complex nested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dependent data: dependencies in the outcome over time, over space, over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heterogeneity: standard regression models ‘averages’, Multilevel models additionally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contextuality: micro and macro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CAD0-DBED-4C01-954E-851761269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ultileve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ndom-effect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ierarchic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Variance-component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ndom-coeffici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ixe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6FCA-A450-4D08-A3D1-3D2D52FD5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Kathleen Bennett</dc:creator>
  <dc:description/>
  <dc:language>en-US</dc:language>
  <cp:lastModifiedBy>Administrator</cp:lastModifiedBy>
  <dcterms:modified xsi:type="dcterms:W3CDTF">2014-09-09T16:48:54Z</dcterms:modified>
  <cp:revision>470</cp:revision>
  <dc:subject/>
  <dc:title>PowerPoint Presentation</dc:title>
</cp:coreProperties>
</file>